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85EC-B118-4E69-B6F2-D6859D1F5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4E24-ECBF-43AD-8C1B-528EAAB9B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FFD6-4233-4547-B95C-64BB5242F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DBFE-3392-4EBD-A9A1-5B4DEBDE7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5F8B-E1B5-4056-90E6-815C9B2F1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6726-1D5F-410A-8605-F1DB98754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ADA9-2901-47AC-A1D5-5D1C3AE99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038D-A72C-4F32-9555-83E1524A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A3BF-278D-43F0-9245-3E95AB2E5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6A8-60D3-4AE9-B9F5-627A05D0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F62-42D8-473D-ABFA-BE81E430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E6E-125A-4EB3-BD9E-D6E6BF53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86F-C3E7-4230-8F1D-F969BFFF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0B36-3236-4CB1-9F9C-B4E6A065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726A-E188-4AA8-86A4-5C30FA76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EDEC-7C49-4E33-AB94-B35BD5E2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5BF2-7D05-456F-9901-E0AFB9C2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618A-57EB-4109-994B-A951784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A59C-DF6F-4C86-99C8-41DF2230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65B7-F647-456B-8E5D-14AC895D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320-3428-48E4-88B9-B8BEEBDE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5D24-A081-4E89-99D8-DCDC346D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D024-55AE-406A-A201-FDA0F07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91BC-9E46-4334-AB08-BDC46179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81C6-3B31-4FCD-9F9E-22BA213F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1476-BAB3-4C24-8F74-DD78BF76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535-13B6-4845-AC7D-BF9E9BAE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3B9-E916-4168-B1DD-4639B9C0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E89-06F5-4429-92C0-8FC83DB0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02B-57DB-44A8-84D4-79C1BB26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7E5-505E-4B21-AC48-7C7A1B29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8E5-F950-41BD-B077-B283C175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C8F-D336-4556-B62B-83E01A9F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BD0B-9D42-4FBF-AC27-B9E7DD3DD1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2FB5-0860-4998-8CBF-00541C3D4B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04920" y="380880"/>
            <a:ext cx="838188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HJ Bergamo"/>
              </a:rPr>
              <a:t>The great writers of fiction speak to and inform the universal human heart and mind.  They warn us of what we should and should not do or be.  Furthermore, </a:t>
            </a:r>
            <a:r>
              <a:rPr b="0" i="1" lang="en-US" sz="3600" spc="-1" strike="noStrike">
                <a:solidFill>
                  <a:srgbClr val="cc0000"/>
                </a:solidFill>
                <a:latin typeface="AHJ Bergamo"/>
              </a:rPr>
              <a:t>they do not tell</a:t>
            </a:r>
            <a:r>
              <a:rPr b="0" lang="en-US" sz="3600" spc="-1" strike="noStrike">
                <a:solidFill>
                  <a:srgbClr val="cc0000"/>
                </a:solidFill>
                <a:latin typeface="AHJ Bergamo"/>
              </a:rPr>
              <a:t> </a:t>
            </a:r>
            <a:r>
              <a:rPr b="0" i="1" lang="en-US" sz="3600" spc="-1" strike="noStrike">
                <a:solidFill>
                  <a:srgbClr val="cc0000"/>
                </a:solidFill>
                <a:latin typeface="AHJ Bergamo"/>
              </a:rPr>
              <a:t>us</a:t>
            </a:r>
            <a:r>
              <a:rPr b="0" lang="en-US" sz="3600" spc="-1" strike="noStrike">
                <a:solidFill>
                  <a:srgbClr val="cc0000"/>
                </a:solidFill>
                <a:latin typeface="AHJ Bergamo"/>
              </a:rPr>
              <a:t> these human truths, </a:t>
            </a:r>
            <a:r>
              <a:rPr b="0" i="1" lang="en-US" sz="3600" spc="-1" strike="noStrike">
                <a:solidFill>
                  <a:srgbClr val="cc0000"/>
                </a:solidFill>
                <a:latin typeface="AHJ Bergamo"/>
              </a:rPr>
              <a:t>they show us</a:t>
            </a:r>
            <a:r>
              <a:rPr b="0" lang="en-US" sz="3600" spc="-1" strike="noStrike">
                <a:solidFill>
                  <a:srgbClr val="cc0000"/>
                </a:solidFill>
                <a:latin typeface="AHJ Bergamo"/>
              </a:rPr>
              <a:t> through character development, setting symbolism, and all the other tools at their disposal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HJ Bergamo Small Caps"/>
              </a:rPr>
              <a:t>Fiction informs the human heart about the truth of our exist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ink aloud: Finding an asser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noticed that in Stargirl the main character Stargirl chan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girl changes twice during the novel: first she is an eccentric, free-spirit, later she tries to conform to the behaviors of her peers, but finally she returns to her true individualistic sel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Nex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make an assertion based on this analysis of Stargir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k: What new understanding about life, relationships, gender or class does this pres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swer:  Stargirl doesn’t like this society…she finds it shallow and phony…so she quits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mula to make an asser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author’s name) is making a point about (general subject); the specific point s/he is making is that _____________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 I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targir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author Jerry Spinelli makes a point about the superficial nature of modern society; the specific point he is making is that society is shallow and does not value individuality and it therefore should be rej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m Formula to Th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se your assertion statement adding that the author is using the character(s) to make that specific poin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 Jerry Spinelli, author of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targir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uses the protagonist Stargirl to argue that modern society is superficial and incapable of valuing individuality and should be rej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then becomes the preliminary thes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ry another on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noticed that i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he Pear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he main character, Kino, chang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ino changes during the course of  the novel. First he is a young father and husband who is poor but content. However, after he finds a great pearl, he changes into a ruthless murder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nex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w make an assertion based on this analysis of Kin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new understanding about life, relationships, gender or class does this present? (In other words, why does he change? – this is your analysis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swer: Kino changes because of his greed. He finds out that greed is a destructive force that can ruin one’s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mula to make an asser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author’s name) is making a point about (general subject); the specific point s/he is making is that _____________________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 Author John Steinbeck makes a point about the destructive nature of greed in man; the specific point he is making is that placing one’s greedy needs over the more important intangible needs of family can destroy a man’s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m Formula to Th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se your assertion statement adding that the author is using the character(s) to make that specific poi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Through Kino’s struggles with the pearl, Steinbeck demonstrates that placing one’s greedy needs over the more important intangible needs of family can destroy a man’s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nk Aloud: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 compare/contra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noticed that Arthur, 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Button, Butt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Chris 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Hundred Bucks of Happ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re similar in that both decide to do the right thing.  Both characters are tempted by wealth, but choose to make good, selfless decis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 Formula To Use To Make an Asser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the formu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ichard Matheson, author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Button, Butt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Susan Beth Pfeffer, author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A Hundred Bucks of Happ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re making a point about self-sacrifice; the specific point they are making is that good people think of others before themselv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457200" y="304920"/>
            <a:ext cx="4038480" cy="2895480"/>
          </a:xfrm>
          <a:prstGeom prst="rightArrow">
            <a:avLst>
              <a:gd name="adj1" fmla="val 50000"/>
              <a:gd name="adj2" fmla="val 34869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648320" y="0"/>
            <a:ext cx="4495680" cy="3886200"/>
          </a:xfrm>
          <a:prstGeom prst="irregularSeal1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58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Human Behav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562720" y="129528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nsequence of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3520" y="2819520"/>
            <a:ext cx="49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Edwardian Script ITC"/>
              </a:rPr>
              <a:t>Authors use. . .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3505320" y="4191120"/>
            <a:ext cx="5562360" cy="236196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228600" y="4267080"/>
            <a:ext cx="4038480" cy="1981440"/>
          </a:xfrm>
          <a:prstGeom prst="rightArrowCallout">
            <a:avLst>
              <a:gd name="adj1" fmla="val 25002"/>
              <a:gd name="adj2" fmla="val 25000"/>
              <a:gd name="adj3" fmla="val 33969"/>
              <a:gd name="adj4" fmla="val 66667"/>
            </a:avLst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he abstrac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nd concr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114800" y="47242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To illustrate or explain the behavior, or human nat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w turn this into a thesi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ise your assertion statemen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adding that the author is using the character to make that specific poin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uthors Matheson and Pfeffer are  using their characters of Arthur and Chris to illustrate that to be a good person, one must put the welfare of others above one’s own desi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ph02738u"/>
          <p:cNvPicPr/>
          <p:nvPr/>
        </p:nvPicPr>
        <p:blipFill>
          <a:blip r:embed="rId1"/>
          <a:stretch/>
        </p:blipFill>
        <p:spPr>
          <a:xfrm>
            <a:off x="838080" y="2438280"/>
            <a:ext cx="1854360" cy="27432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55" name="WordArt 2"/>
          <p:cNvSpPr txBox="1"/>
          <p:nvPr/>
        </p:nvSpPr>
        <p:spPr>
          <a:xfrm>
            <a:off x="838080" y="457200"/>
            <a:ext cx="701064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Formulating a The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286000" y="1828800"/>
            <a:ext cx="6858000" cy="4343400"/>
          </a:xfrm>
          <a:prstGeom prst="cloudCallout">
            <a:avLst>
              <a:gd name="adj1" fmla="val -72175"/>
              <a:gd name="adj2" fmla="val 5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H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Brainstorm, free-write, talk to others, make a jot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analysi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 stuff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Verdana"/>
              </a:rPr>
              <a:t>Compare the effect of one element on another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914400" y="2286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You may show how. .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495680" y="2438280"/>
            <a:ext cx="4114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ne Chara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2590920" y="3505320"/>
            <a:ext cx="4114800" cy="1752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0988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ff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66680" y="5486400"/>
            <a:ext cx="7315200" cy="3682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The meaning of the whole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Verdana"/>
              </a:rPr>
              <a:t>One Character’s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286000" y="1905120"/>
            <a:ext cx="4114800" cy="761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tage 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286000" y="3200400"/>
            <a:ext cx="4114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tage Tw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286000" y="4419720"/>
            <a:ext cx="4114800" cy="761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tage Thr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1143000" y="2286000"/>
            <a:ext cx="838080" cy="1676520"/>
          </a:xfrm>
          <a:custGeom>
            <a:avLst/>
            <a:gdLst>
              <a:gd name="textAreaLeft" fmla="*/ 112320 w 838080"/>
              <a:gd name="textAreaRight" fmla="*/ 725760 w 83808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6629400" y="350532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0" y="541008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Edwardian Script ITC"/>
              </a:rPr>
              <a:t>Don’t forget to tell. . 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4572000" y="4419720"/>
            <a:ext cx="4191120" cy="1904760"/>
          </a:xfrm>
          <a:prstGeom prst="cloudCallout">
            <a:avLst>
              <a:gd name="adj1" fmla="val -65453"/>
              <a:gd name="adj2" fmla="val 64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Why this is important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pare and Contrast two characters, symbols, settings, et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286000" y="1905120"/>
            <a:ext cx="4114800" cy="761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etting 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286000" y="3200400"/>
            <a:ext cx="4114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etting Tw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143000" y="2286000"/>
            <a:ext cx="838080" cy="1676520"/>
          </a:xfrm>
          <a:custGeom>
            <a:avLst/>
            <a:gdLst>
              <a:gd name="textAreaLeft" fmla="*/ 112320 w 838080"/>
              <a:gd name="textAreaRight" fmla="*/ 725760 w 83808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629400" y="350532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28600" y="434340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Edwardian Script ITC"/>
              </a:rPr>
              <a:t>Don’t forget to tell. . 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572000" y="3429000"/>
            <a:ext cx="4191120" cy="2895480"/>
          </a:xfrm>
          <a:prstGeom prst="cloudCallout">
            <a:avLst>
              <a:gd name="adj1" fmla="val -106476"/>
              <a:gd name="adj2" fmla="val 533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What the differences show 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riting A Liter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alysis Essa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Determine a 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Goal of Analysis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demonstrate some new understanding of the literary 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this new understanding in the form of a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asser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your analysis with evidence and commenta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n Asser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ssertion is an opinion about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eneral subj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like life, relationships, gender or class that you think the author is making through some element (character, theme, symbol) of the no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6" descr="MCj03835500000[1]"/>
          <p:cNvPicPr/>
          <p:nvPr/>
        </p:nvPicPr>
        <p:blipFill>
          <a:blip r:embed="rId1"/>
          <a:stretch/>
        </p:blipFill>
        <p:spPr>
          <a:xfrm>
            <a:off x="5684760" y="2133720"/>
            <a:ext cx="1490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01:35:32Z</dcterms:created>
  <dc:creator>Default</dc:creator>
  <dc:description/>
  <dc:language>en-US</dc:language>
  <cp:lastModifiedBy>vhs</cp:lastModifiedBy>
  <dcterms:modified xsi:type="dcterms:W3CDTF">2010-12-06T20:32:57Z</dcterms:modified>
  <cp:revision>19</cp:revision>
  <dc:subject/>
  <dc:title>Writing A Literary Analysis Essay</dc:title>
</cp:coreProperties>
</file>